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click.wav" ContentType="audio/x-wav"/>
  <Override PartName="/ppt/media/type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F01A-DF2C-4FC2-BEFA-2ED26C44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7A0-A358-4D32-8189-C105BFE9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BF59-F68C-4816-892F-0A3B0A95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D16-A672-49D9-AC3F-2D0DFAE0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0C6E-7E44-4CBB-B7A1-3E27914B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06E7-19C0-4314-AE9F-C496A6C1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521-382C-41D1-9B60-6BDBC20B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A3D-2B33-4A3F-AF2D-AD7EC992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DDA-EDAA-4282-B30B-D6B1597C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2253-57B0-4A5A-A95C-251709F8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DFAA-7A5A-463E-A1C3-E0874131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A16-76F1-43E7-AA3F-77090E50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BD47-6285-41E5-B7D4-E17076A9A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type.wav"/><Relationship Id="rId9" Type="http://schemas.openxmlformats.org/officeDocument/2006/relationships/audio" Target="../media/click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type.wav"/><Relationship Id="rId27" Type="http://schemas.openxmlformats.org/officeDocument/2006/relationships/audio" Target="../media/type.wav"/><Relationship Id="rId28" Type="http://schemas.openxmlformats.org/officeDocument/2006/relationships/audio" Target="../media/type.wav"/><Relationship Id="rId29" Type="http://schemas.openxmlformats.org/officeDocument/2006/relationships/audio" Target="../media/type.wav"/><Relationship Id="rId30" Type="http://schemas.openxmlformats.org/officeDocument/2006/relationships/audio" Target="../media/type.wav"/><Relationship Id="rId3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type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type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type.wav"/><Relationship Id="rId26" Type="http://schemas.openxmlformats.org/officeDocument/2006/relationships/audio" Target="../media/type.wav"/><Relationship Id="rId27" Type="http://schemas.openxmlformats.org/officeDocument/2006/relationships/audio" Target="../media/click.wav"/><Relationship Id="rId2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click.wav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38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Интерактивный кроссворд 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по английскому языку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на тему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Animals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4932360" y="5950080"/>
            <a:ext cx="1079640" cy="718920"/>
          </a:xfrm>
          <a:custGeom>
            <a:avLst/>
            <a:gdLst>
              <a:gd name="textAreaLeft" fmla="*/ 46440 w 1079640"/>
              <a:gd name="textAreaRight" fmla="*/ 1033200 w 1079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2432" h="21600">
                <a:moveTo>
                  <a:pt x="0" y="0"/>
                </a:moveTo>
                <a:lnTo>
                  <a:pt x="32432" y="0"/>
                </a:lnTo>
                <a:lnTo>
                  <a:pt x="32432" y="21600"/>
                </a:lnTo>
                <a:lnTo>
                  <a:pt x="0" y="21600"/>
                </a:lnTo>
                <a:close/>
              </a:path>
              <a:path fill="lightenLess" w="32432" h="21600">
                <a:moveTo>
                  <a:pt x="0" y="0"/>
                </a:moveTo>
                <a:lnTo>
                  <a:pt x="32432" y="0"/>
                </a:lnTo>
                <a:lnTo>
                  <a:pt x="31032" y="1400"/>
                </a:lnTo>
                <a:lnTo>
                  <a:pt x="1400" y="1400"/>
                </a:lnTo>
                <a:close/>
              </a:path>
              <a:path fill="darken" w="32432" h="21600">
                <a:moveTo>
                  <a:pt x="32432" y="0"/>
                </a:moveTo>
                <a:lnTo>
                  <a:pt x="32432" y="21600"/>
                </a:lnTo>
                <a:lnTo>
                  <a:pt x="31032" y="20200"/>
                </a:lnTo>
                <a:lnTo>
                  <a:pt x="31032" y="1400"/>
                </a:lnTo>
                <a:close/>
              </a:path>
              <a:path fill="darkenLess" w="32432" h="21600">
                <a:moveTo>
                  <a:pt x="32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2" y="20200"/>
                </a:lnTo>
                <a:close/>
              </a:path>
              <a:path fill="lighten" w="32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2" h="21600">
                <a:moveTo>
                  <a:pt x="9210" y="3794"/>
                </a:moveTo>
                <a:lnTo>
                  <a:pt x="23223" y="10800"/>
                </a:lnTo>
                <a:lnTo>
                  <a:pt x="921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Автор – Шипицына Ольга Виктор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учитель английского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МБОУ «Верховажская нош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с. Верховажь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Вологод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3132000" y="5950080"/>
            <a:ext cx="1079640" cy="718920"/>
          </a:xfrm>
          <a:custGeom>
            <a:avLst/>
            <a:gdLst>
              <a:gd name="textAreaLeft" fmla="*/ 46440 w 1079640"/>
              <a:gd name="textAreaRight" fmla="*/ 1033200 w 1079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2432" h="21600">
                <a:moveTo>
                  <a:pt x="0" y="0"/>
                </a:moveTo>
                <a:lnTo>
                  <a:pt x="32432" y="0"/>
                </a:lnTo>
                <a:lnTo>
                  <a:pt x="32432" y="21600"/>
                </a:lnTo>
                <a:lnTo>
                  <a:pt x="0" y="21600"/>
                </a:lnTo>
                <a:close/>
              </a:path>
              <a:path fill="lightenLess" w="32432" h="21600">
                <a:moveTo>
                  <a:pt x="0" y="0"/>
                </a:moveTo>
                <a:lnTo>
                  <a:pt x="32432" y="0"/>
                </a:lnTo>
                <a:lnTo>
                  <a:pt x="31032" y="1400"/>
                </a:lnTo>
                <a:lnTo>
                  <a:pt x="1400" y="1400"/>
                </a:lnTo>
                <a:close/>
              </a:path>
              <a:path fill="darken" w="32432" h="21600">
                <a:moveTo>
                  <a:pt x="32432" y="0"/>
                </a:moveTo>
                <a:lnTo>
                  <a:pt x="32432" y="21600"/>
                </a:lnTo>
                <a:lnTo>
                  <a:pt x="31032" y="20200"/>
                </a:lnTo>
                <a:lnTo>
                  <a:pt x="31032" y="1400"/>
                </a:lnTo>
                <a:close/>
              </a:path>
              <a:path fill="darkenLess" w="32432" h="21600">
                <a:moveTo>
                  <a:pt x="32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2" y="20200"/>
                </a:lnTo>
                <a:close/>
              </a:path>
              <a:path fill="lighten" w="32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2" h="21600">
                <a:moveTo>
                  <a:pt x="1621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2432" h="21600">
                <a:moveTo>
                  <a:pt x="1621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2432" h="21600">
                <a:moveTo>
                  <a:pt x="13640" y="8224"/>
                </a:moveTo>
                <a:lnTo>
                  <a:pt x="17504" y="8224"/>
                </a:lnTo>
                <a:lnTo>
                  <a:pt x="17504" y="15221"/>
                </a:lnTo>
                <a:lnTo>
                  <a:pt x="18793" y="15221"/>
                </a:lnTo>
                <a:lnTo>
                  <a:pt x="18793" y="16144"/>
                </a:lnTo>
                <a:lnTo>
                  <a:pt x="13640" y="16144"/>
                </a:lnTo>
                <a:lnTo>
                  <a:pt x="13640" y="15221"/>
                </a:lnTo>
                <a:lnTo>
                  <a:pt x="14928" y="15221"/>
                </a:lnTo>
                <a:lnTo>
                  <a:pt x="14928" y="9129"/>
                </a:lnTo>
                <a:lnTo>
                  <a:pt x="13640" y="912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11280" y="549360"/>
            <a:ext cx="4681800" cy="1800000"/>
          </a:xfrm>
          <a:prstGeom prst="wedgeRectCallout">
            <a:avLst>
              <a:gd name="adj1" fmla="val -69023"/>
              <a:gd name="adj2" fmla="val 11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дравствуйте, ребят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Вы знаете животных? Помогите мне разгадать кроссвор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250920" y="5589720"/>
            <a:ext cx="1439640" cy="71892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43243" h="21600">
                <a:moveTo>
                  <a:pt x="0" y="0"/>
                </a:moveTo>
                <a:lnTo>
                  <a:pt x="43243" y="0"/>
                </a:lnTo>
                <a:lnTo>
                  <a:pt x="43243" y="21600"/>
                </a:lnTo>
                <a:lnTo>
                  <a:pt x="0" y="21600"/>
                </a:lnTo>
                <a:close/>
              </a:path>
              <a:path fill="lightenLess" w="43243" h="21600">
                <a:moveTo>
                  <a:pt x="0" y="0"/>
                </a:moveTo>
                <a:lnTo>
                  <a:pt x="43243" y="0"/>
                </a:lnTo>
                <a:lnTo>
                  <a:pt x="41843" y="1400"/>
                </a:lnTo>
                <a:lnTo>
                  <a:pt x="1400" y="1400"/>
                </a:lnTo>
                <a:close/>
              </a:path>
              <a:path fill="darken" w="43243" h="21600">
                <a:moveTo>
                  <a:pt x="43243" y="0"/>
                </a:moveTo>
                <a:lnTo>
                  <a:pt x="43243" y="21600"/>
                </a:lnTo>
                <a:lnTo>
                  <a:pt x="41843" y="20200"/>
                </a:lnTo>
                <a:lnTo>
                  <a:pt x="41843" y="1400"/>
                </a:lnTo>
                <a:close/>
              </a:path>
              <a:path fill="darkenLess" w="43243" h="21600">
                <a:moveTo>
                  <a:pt x="4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43" y="20200"/>
                </a:lnTo>
                <a:close/>
              </a:path>
              <a:path fill="lighten" w="4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43" h="21600">
                <a:moveTo>
                  <a:pt x="14615" y="3794"/>
                </a:moveTo>
                <a:lnTo>
                  <a:pt x="28628" y="10800"/>
                </a:lnTo>
                <a:lnTo>
                  <a:pt x="146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692360" y="2707920"/>
            <a:ext cx="5400720" cy="1440000"/>
          </a:xfrm>
          <a:prstGeom prst="wedgeRectCallout">
            <a:avLst>
              <a:gd name="adj1" fmla="val -63462"/>
              <a:gd name="adj2" fmla="val 16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ход между  слайдами осуществляй при помощи управляющей кнопк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2000" y="342900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508640"/>
            <a:ext cx="4681800" cy="1800000"/>
          </a:xfrm>
          <a:prstGeom prst="wedgeRectCallout">
            <a:avLst>
              <a:gd name="adj1" fmla="val 72212"/>
              <a:gd name="adj2" fmla="val -210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в сетку кроссворда вписать слово, Вам необходимо набрать его по буквам на клави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06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1628640"/>
            <a:ext cx="7189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234936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32720" y="189000"/>
            <a:ext cx="71892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3789360"/>
            <a:ext cx="71928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1989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73440" y="162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32360" y="2708280"/>
            <a:ext cx="396072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цирке он большой талан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он могучий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5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5164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200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17236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3272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5164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7236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32720" y="1628640"/>
            <a:ext cx="7189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234936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189000"/>
            <a:ext cx="71892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3789360"/>
            <a:ext cx="71928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2360" y="2349360"/>
            <a:ext cx="396072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знакомьтесь поскорей: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в джунглях это – царь зверей!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сех на свете одолев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добрел немножко .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1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5164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3272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1200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7236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9236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1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3272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5164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7236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9272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71640" y="9079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0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1628640"/>
            <a:ext cx="7189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234936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32720" y="189000"/>
            <a:ext cx="71892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11280" y="3789360"/>
            <a:ext cx="71928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32360" y="2349360"/>
            <a:ext cx="38512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английс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вершин достиг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инья, я знаю, будет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9272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5164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17236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9236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9272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200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3272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5164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7236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3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5128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9272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11640" y="9079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1200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3272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6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1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5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5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6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7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0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06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3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9272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3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32720" y="1628640"/>
            <a:ext cx="7189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9236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51280" y="234936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32720" y="189000"/>
            <a:ext cx="71892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11280" y="3789360"/>
            <a:ext cx="71928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32360" y="2708280"/>
            <a:ext cx="396072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чему сосисок н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тащил их рыжий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709308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3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709308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1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9236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5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5164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9236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7164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9272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200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73272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7236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3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9272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72360" y="18900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1200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1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3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9272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5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32360" y="2708280"/>
            <a:ext cx="268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9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34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39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9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4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9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9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9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04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9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19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24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29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34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3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44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9272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0920" y="189000"/>
            <a:ext cx="858996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3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32720" y="1628640"/>
            <a:ext cx="7189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9236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1280" y="234936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732720" y="189000"/>
            <a:ext cx="71892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411280" y="3789360"/>
            <a:ext cx="71928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32360" y="2708280"/>
            <a:ext cx="396072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одит за собой цыпля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ловно няня в детский 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3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9236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45164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17236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9236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9272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1200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45164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17236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3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5128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9272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1200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13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272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5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7164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73272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0920" y="378936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1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1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62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67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72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77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82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87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92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97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02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07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12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3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614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17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22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27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32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7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42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47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649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2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7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659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2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7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72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89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858996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332000" y="1628640"/>
            <a:ext cx="611964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Молодец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375" name="">
            <a:hlinkClick r:id="" action="ppaction://hlinkshowjump?jump=endshow"/>
          </p:cNvPr>
          <p:cNvSpPr/>
          <p:nvPr/>
        </p:nvSpPr>
        <p:spPr>
          <a:xfrm>
            <a:off x="6732720" y="5229360"/>
            <a:ext cx="1439640" cy="72072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3135" h="21600">
                <a:moveTo>
                  <a:pt x="0" y="0"/>
                </a:moveTo>
                <a:lnTo>
                  <a:pt x="43135" y="0"/>
                </a:lnTo>
                <a:lnTo>
                  <a:pt x="43135" y="21600"/>
                </a:lnTo>
                <a:lnTo>
                  <a:pt x="0" y="21600"/>
                </a:lnTo>
                <a:close/>
              </a:path>
              <a:path fill="lightenLess" w="43135" h="21600">
                <a:moveTo>
                  <a:pt x="0" y="0"/>
                </a:moveTo>
                <a:lnTo>
                  <a:pt x="43135" y="0"/>
                </a:lnTo>
                <a:lnTo>
                  <a:pt x="41735" y="1400"/>
                </a:lnTo>
                <a:lnTo>
                  <a:pt x="1400" y="1400"/>
                </a:lnTo>
                <a:close/>
              </a:path>
              <a:path fill="darken" w="43135" h="21600">
                <a:moveTo>
                  <a:pt x="43135" y="0"/>
                </a:moveTo>
                <a:lnTo>
                  <a:pt x="43135" y="21600"/>
                </a:lnTo>
                <a:lnTo>
                  <a:pt x="41735" y="20200"/>
                </a:lnTo>
                <a:lnTo>
                  <a:pt x="41735" y="1400"/>
                </a:lnTo>
                <a:close/>
              </a:path>
              <a:path fill="darkenLess" w="43135" h="21600">
                <a:moveTo>
                  <a:pt x="43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5" y="20200"/>
                </a:lnTo>
                <a:close/>
              </a:path>
              <a:path fill="lighten" w="43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5" h="21600">
                <a:moveTo>
                  <a:pt x="14561" y="3794"/>
                </a:moveTo>
                <a:lnTo>
                  <a:pt x="28574" y="10800"/>
                </a:lnTo>
                <a:lnTo>
                  <a:pt x="1456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pedsovet.su/load/390-1-0-43265 шаблон для презент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0920" y="1628640"/>
            <a:ext cx="8589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firstslide"/>
          </p:cNvPr>
          <p:cNvSpPr/>
          <p:nvPr/>
        </p:nvSpPr>
        <p:spPr>
          <a:xfrm>
            <a:off x="611280" y="5229360"/>
            <a:ext cx="1081080" cy="720720"/>
          </a:xfrm>
          <a:custGeom>
            <a:avLst/>
            <a:gdLst>
              <a:gd name="textAreaLeft" fmla="*/ 46440 w 1081080"/>
              <a:gd name="textAreaRight" fmla="*/ 1034640 w 1081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95" h="21600">
                <a:moveTo>
                  <a:pt x="0" y="0"/>
                </a:moveTo>
                <a:lnTo>
                  <a:pt x="32395" y="0"/>
                </a:lnTo>
                <a:lnTo>
                  <a:pt x="32395" y="21600"/>
                </a:lnTo>
                <a:lnTo>
                  <a:pt x="0" y="21600"/>
                </a:lnTo>
                <a:close/>
              </a:path>
              <a:path fill="lightenLess" w="32395" h="21600">
                <a:moveTo>
                  <a:pt x="0" y="0"/>
                </a:moveTo>
                <a:lnTo>
                  <a:pt x="32395" y="0"/>
                </a:lnTo>
                <a:lnTo>
                  <a:pt x="30995" y="1400"/>
                </a:lnTo>
                <a:lnTo>
                  <a:pt x="1400" y="1400"/>
                </a:lnTo>
                <a:close/>
              </a:path>
              <a:path fill="darken" w="32395" h="21600">
                <a:moveTo>
                  <a:pt x="32395" y="0"/>
                </a:moveTo>
                <a:lnTo>
                  <a:pt x="32395" y="21600"/>
                </a:lnTo>
                <a:lnTo>
                  <a:pt x="30995" y="20200"/>
                </a:lnTo>
                <a:lnTo>
                  <a:pt x="30995" y="1400"/>
                </a:lnTo>
                <a:close/>
              </a:path>
              <a:path fill="darkenLess" w="32395" h="21600">
                <a:moveTo>
                  <a:pt x="3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5" y="20200"/>
                </a:lnTo>
                <a:close/>
              </a:path>
              <a:path fill="lighten" w="3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5" h="21600">
                <a:moveTo>
                  <a:pt x="12698" y="10800"/>
                </a:moveTo>
                <a:lnTo>
                  <a:pt x="23204" y="3794"/>
                </a:lnTo>
                <a:lnTo>
                  <a:pt x="23204" y="17806"/>
                </a:lnTo>
                <a:close/>
              </a:path>
              <a:path fill="darken" w="32395" h="21600">
                <a:moveTo>
                  <a:pt x="9191" y="3794"/>
                </a:moveTo>
                <a:lnTo>
                  <a:pt x="10853" y="3794"/>
                </a:lnTo>
                <a:lnTo>
                  <a:pt x="10853" y="17806"/>
                </a:lnTo>
                <a:lnTo>
                  <a:pt x="919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17:06:56Z</dcterms:created>
  <dc:creator>Navigator</dc:creator>
  <dc:description/>
  <dc:language>en-US</dc:language>
  <cp:lastModifiedBy>Navigator</cp:lastModifiedBy>
  <dcterms:modified xsi:type="dcterms:W3CDTF">2015-01-12T14:45:14Z</dcterms:modified>
  <cp:revision>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